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D3D-5E10-48BA-9C23-21701D76C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7EA8-7C9D-4A4F-99EF-6C8EB60C5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0C5-C6DD-4366-BB6C-5E42EB7F8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22EC-C4F8-4890-9ED9-2C8673144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72D-FFAF-4825-8690-3F1DFD9D1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555-5196-4C3E-B946-290795F75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5A2-B54A-4BF1-B6C7-CFAD34AEB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F54E-1FC1-44C4-84E5-D20BA9460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37B-D0D0-4E45-99EF-57694E5B2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ACB8-DD9D-41D6-AC2E-F88C11760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425-2FD9-4680-9508-A6D234A3C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410F-2DF3-427D-BBA1-73BB6D59A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156-66BA-4EC9-8DEA-06C54633B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86C-2994-40E2-9150-38533C794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CAD-B1F5-4B99-BEE7-F2B0F7DF9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7950-0178-498A-9ADA-73F5340CD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73C-6796-4808-8DF5-6F7F55A60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D3F-7D58-4E6F-897E-3731D03CE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44B-6A6B-487D-B2F2-94C01EF62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65D-EF4E-430D-8229-C531DE29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A55-E5FF-446F-B24F-151D391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BE9-B2B4-4FE8-9EBF-069511C5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F72-171A-4643-9237-B8B2C1AE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D48-7F3E-4735-B6A7-2195301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76A-921D-4D08-90CC-20D65F4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5CE-AE1A-4C57-B522-FC724A9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6D8-2642-472E-BE38-3EDD143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D38-6F79-4E8E-85D5-15FDA56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CEC-3205-4315-81D3-E39F7DC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BA1-4924-4F62-B50C-FD57353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CA9-9B0A-42D4-83C9-DE72E8B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DDE-9617-4AC1-BDA0-ECFE8939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 to revise bas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) to ask each other what animals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) to learn how to describe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) to run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) to do some brain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) to learn where to put the colour in relation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-468360" y="260280"/>
            <a:ext cx="9612360" cy="6802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color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l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zul - b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rillo -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anco  -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de -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ado - purp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ro -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jo -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- br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anja - 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s - gr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the colour goes after the noun in a sentence e.g. tengo un caballo gr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t must agree IF the colour above ends in “o” e.g. una serpiente roj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w your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a green torto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I have 10 white rabb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2 brown hor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I have 2 blue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ve 5 orange bir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I have 14 black 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9280" y="476280"/>
            <a:ext cx="3888000" cy="44830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I have a green tort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I have 2 brown hor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I have 5 orange bi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I have 10 white rab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I have 2 blue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I have 14 black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140360" y="476280"/>
            <a:ext cx="4824360" cy="3751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Tengo una tortuga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engo dos caballos marr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Tengo cinco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jaros naranj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Tengo diez conejos bl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Tengo dos perros az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Tengo catorce gatos neg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39640" y="1052640"/>
            <a:ext cx="828036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Tienes ani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í, tengo dos gatos 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ueve caba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hora, ¡¡a vosotros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71640" y="4869000"/>
            <a:ext cx="431964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44:53Z</dcterms:created>
  <dc:creator>Owner1</dc:creator>
  <dc:description/>
  <dc:language>en-US</dc:language>
  <cp:lastModifiedBy>Chris</cp:lastModifiedBy>
  <dcterms:modified xsi:type="dcterms:W3CDTF">2009-01-12T10:53:11Z</dcterms:modified>
  <cp:revision>7</cp:revision>
  <dc:subject/>
  <dc:title>Slide 1</dc:title>
</cp:coreProperties>
</file>